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1C7-D31C-4CE5-A099-9AA361CE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EB3-B49A-4B2C-96BE-9ECB2DA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224-2993-4F6F-9B7D-AB84D6F8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428-6794-4A54-815F-1942D0D3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0384-5855-490C-AE43-9C9D0EB0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B808-10B8-437B-A24A-1A9C7A0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33D-E5E2-49DF-93FC-92D1CF16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C133-4BCD-4371-A867-5BE997E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77A8-EAAA-406F-A57F-D8000F7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B3C-0FF5-40ED-942E-6F5510A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2B4-818D-4531-AC32-671F7A4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64E-EAFE-4C33-8502-C891D75D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C63D-0C39-426E-B55C-C78795E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95D-4242-4B62-9FB7-CE35E02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4517-4A50-445E-9ECE-DFBF23F4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5032-DD5C-4F1E-B01F-2B8CDAE9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8C9-824E-463A-B745-C8E1AB47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BE58-0C1D-4CD3-AE9A-CA129571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980B-1436-4F86-B7FC-4AF7CD6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9AEA-3E3E-4C5B-9363-CF17689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D78F-7F6A-4979-AFB9-836C469E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92AB-04FD-4531-AEA3-3A09BA3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C0B-D483-4603-9C45-099AB514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3325-9C15-43AC-9C8E-F04F350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2476C-6CAA-4169-B700-EE5A3F2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C2B0-4904-4708-83C0-2057822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185A-3B70-4EE6-A75D-96055E1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946C-F819-48AF-BAF6-C1365B9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649F-AD16-4D5F-89D2-7AC2222E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9C8B-5BC9-496F-97F9-AE5DF929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4BD6-B470-4048-A73D-5C9DB790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0A6B-3CDA-42F5-BC4B-5D56293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1984-2D1A-45E2-8A93-90442E0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ED6-BA97-49D8-8D5D-2FE15C15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D0EF-BCA5-4AA3-9474-056C1E3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317C-327C-4C71-97FD-2338B0C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A774-210C-4CD7-B525-28612CB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DC58-E609-43A6-8DFF-765819D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FABE-2E34-42D9-AFC3-7377B71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4A5F-424F-4C7E-8383-2EA4BCA5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F57C-EA9E-4454-AB58-49012B4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730A-5378-400C-B111-08BF53CA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431C-9EA9-460E-B745-ED271CCA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D94-948C-4B05-8472-0354031F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9EB-7675-4507-8673-82BE7BE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216-9D01-4502-A2E4-CB204EC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E4D-CA08-497B-88FE-1C618E1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F91-EE48-49BD-B31D-46475BD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06B4-A26D-4CDF-B88B-D866EF59221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D0C4-C4D0-431A-9D02-377A2FF28E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BD5-A933-41B2-9177-91A733E8627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9CC-5788-43CD-BD1C-B810E16A4A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8E46-401A-47E8-9A82-3677C9715CB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B2C-0AC6-479A-834B-EC790D28F34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EAA-7160-4602-815A-1F70C426D3C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3EE-7F99-448B-B6C4-525321F5B8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. 22 Warm-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560" y="198072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are and contrast natural selection vs. artificial sele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are the key ideas of natural selectio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fine and give an example for the follow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mologous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stigial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alogous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3. Homolog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93464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Homolo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haracteristics in related species can hav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nderlying similarit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though functions may dif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omologous structu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anatomy from common ancestors (eg. forelimbs of human/cat/whale/ba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Embryonic homolog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early development (eg. vertebrate embryos with tail &amp; pharyngeal pouch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Vestigial orga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tructures w/little or no use (eg. flightless bird w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Molecular homolog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DNA and amino acid 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22_15HomologousForelimbs-L.jpg"/>
          <p:cNvPicPr/>
          <p:nvPr/>
        </p:nvPicPr>
        <p:blipFill>
          <a:blip r:embed="rId2"/>
          <a:stretch/>
        </p:blipFill>
        <p:spPr>
          <a:xfrm>
            <a:off x="304920" y="1981080"/>
            <a:ext cx="8547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22_16_HomologousEmbryos-L.jpg"/>
          <p:cNvPicPr/>
          <p:nvPr/>
        </p:nvPicPr>
        <p:blipFill>
          <a:blip r:embed="rId2"/>
          <a:stretch/>
        </p:blipFill>
        <p:spPr>
          <a:xfrm>
            <a:off x="914400" y="2057400"/>
            <a:ext cx="732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419720" cy="3822840"/>
          </a:xfrm>
          <a:prstGeom prst="rect">
            <a:avLst/>
          </a:prstGeom>
          <a:ln w="0">
            <a:noFill/>
          </a:ln>
        </p:spPr>
      </p:pic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73080" y="573120"/>
            <a:ext cx="8699400" cy="957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1981440" cy="2251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4"/>
          <a:stretch/>
        </p:blipFill>
        <p:spPr>
          <a:xfrm>
            <a:off x="3657600" y="3276720"/>
            <a:ext cx="2457360" cy="313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793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lecular Homolog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26668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DNA and amino acid seq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4191120" y="771480"/>
            <a:ext cx="471636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22_17TreeThinkingInfo-L.jpg"/>
          <p:cNvPicPr/>
          <p:nvPr/>
        </p:nvPicPr>
        <p:blipFill>
          <a:blip r:embed="rId2"/>
          <a:stretch/>
        </p:blipFill>
        <p:spPr>
          <a:xfrm>
            <a:off x="1219320" y="2048040"/>
            <a:ext cx="6705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vergent Ev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antly related species can resemble one anot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Similar problem, similar solution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Analogous structur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similar structures, function in similar environ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Torpedo shape of shark, penguin, &amp; dolph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3" descr="22_18_ConvergentEvolu-L.jpg"/>
          <p:cNvPicPr/>
          <p:nvPr/>
        </p:nvPicPr>
        <p:blipFill>
          <a:blip r:embed="rId1"/>
          <a:stretch/>
        </p:blipFill>
        <p:spPr>
          <a:xfrm>
            <a:off x="2590920" y="4114800"/>
            <a:ext cx="42195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4. Biogeograph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Biogeograph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geographic distribution of a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pecies in nearby geographic areas resemble each ot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Continental drif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Pangae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similarities on different contin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Endemic speci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found at a certain geographic location and nowhere el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Marine iguanas in the Galapag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3" descr=""/>
          <p:cNvPicPr/>
          <p:nvPr/>
        </p:nvPicPr>
        <p:blipFill>
          <a:blip r:embed="rId1"/>
          <a:stretch/>
        </p:blipFill>
        <p:spPr>
          <a:xfrm>
            <a:off x="73080" y="725400"/>
            <a:ext cx="8699400" cy="9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371600" y="1803240"/>
            <a:ext cx="6172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81216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95320" y="3228480"/>
            <a:ext cx="3892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cent with Modific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Darwinian View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 B: Evidence for Evolu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22_02aDarwinContext-U.jpg"/>
          <p:cNvPicPr/>
          <p:nvPr/>
        </p:nvPicPr>
        <p:blipFill>
          <a:blip r:embed="rId2"/>
          <a:stretch/>
        </p:blipFill>
        <p:spPr>
          <a:xfrm>
            <a:off x="457200" y="2057400"/>
            <a:ext cx="4059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26_21_ThreeDomains-L.jpg"/>
          <p:cNvPicPr/>
          <p:nvPr/>
        </p:nvPicPr>
        <p:blipFill>
          <a:blip r:embed="rId1"/>
          <a:stretch/>
        </p:blipFill>
        <p:spPr>
          <a:xfrm>
            <a:off x="1905120" y="1447920"/>
            <a:ext cx="6933960" cy="5178240"/>
          </a:xfrm>
          <a:prstGeom prst="rect">
            <a:avLst/>
          </a:prstGeom>
          <a:ln w="0">
            <a:noFill/>
          </a:ln>
        </p:spPr>
      </p:pic>
      <p:pic>
        <p:nvPicPr>
          <p:cNvPr id="244" name="Title 1" descr=""/>
          <p:cNvPicPr/>
          <p:nvPr/>
        </p:nvPicPr>
        <p:blipFill>
          <a:blip r:embed="rId2"/>
          <a:stretch/>
        </p:blipFill>
        <p:spPr>
          <a:xfrm>
            <a:off x="0" y="682560"/>
            <a:ext cx="8693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ral examples of evidence for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fference between structures that are homologous and those that are analogous, and how this relates to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ecap main ideas of natural selec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olution is change in species over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overproduction of offspring, which leads to competition for resou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ritable variations exist within a popul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se variations can result in differential reproductive suc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 generations, this can result in changes in the genetic composition of the popul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ndividuals do NOT evolve!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opulation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evol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Observ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ssil Recor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m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iogeograph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idence for Ev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935000"/>
          <a:ext cx="8229600" cy="431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Direct Observ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Fossil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Hom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Bio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 Direct Observa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1904760"/>
            <a:ext cx="8610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ct populations become resistant to pesticides (DD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tibiotic-resistant bacteria (MR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ppered moth (pollution in city vs. count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2286000" cy="227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380880" y="4189320"/>
            <a:ext cx="2362320" cy="23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3056040" cy="231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2. Fossil Reco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ossil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remains or traces of organisms from pa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 in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sedimentary r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aleontolog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study of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w evolutionary changes that occur over time and origin of major new groups of organis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22_19_AnkleBones-L.jpg"/>
          <p:cNvPicPr/>
          <p:nvPr/>
        </p:nvPicPr>
        <p:blipFill>
          <a:blip r:embed="rId1"/>
          <a:stretch/>
        </p:blipFill>
        <p:spPr>
          <a:xfrm>
            <a:off x="2057400" y="4419720"/>
            <a:ext cx="520380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600" y="990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karyotes (oldest fossil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ukaryotes (fish – amphibians – reptiles – birds – mammal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itional forms = links to modern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1148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8:31:25Z</dcterms:created>
  <dc:creator>Chris Nancy Chou</dc:creator>
  <dc:description/>
  <dc:language>en-US</dc:language>
  <cp:lastModifiedBy>Chris Nancy Chou</cp:lastModifiedBy>
  <dcterms:modified xsi:type="dcterms:W3CDTF">2013-01-30T06:00:24Z</dcterms:modified>
  <cp:revision>34</cp:revision>
  <dc:subject/>
  <dc:title>Chapter 22</dc:title>
</cp:coreProperties>
</file>